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AMERA.WAV" ContentType="audio/x-wav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move the slid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EC40-EF09-421D-A41F-BF49C5D38C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195-D5EC-4CF7-A383-DFB3827F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5D3-683B-4A1A-929F-8B092493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305-AFBC-486B-A6F0-43D36648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49F-0BF0-40CB-A271-39E2BD37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A325-D1AA-4A99-BCDC-24D0B399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F120-E2FA-4AC3-9A12-7006BC3B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AFF7-4EED-4EA5-A1E6-EA22E5F8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714E-C3D7-40E8-8212-5CD8E701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ED95-1190-4BEC-B87F-E83EE268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B233-7FDE-436E-A6D2-B1C6D357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4399-BFB7-4953-A508-D2B439C6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92A-18F9-408B-B761-D1492831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0B97-0834-45E7-8595-807CF6B6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665F-1EF6-40AB-BBA8-0178D36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4D56-C268-47F9-9B59-BCF21DBE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45C7-CF1E-42B6-AC8E-DD574F18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F0A6-613E-4130-A9FB-EE5EFB31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DC0-C369-4416-96EE-E691A6F1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546-417D-4A77-BC5D-D3C7C2B9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080-FEFF-4FC7-A614-96F9DDD8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806-A9DC-4077-B5B2-72BBB014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EC1-7D6B-4865-8003-30A87CC8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02D-FC3E-4B74-BDA8-82F5C218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486-190E-4A6B-A676-CC942B5F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4087-CA95-4A45-AB0A-75BF782AB50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0C62-DE59-488B-8133-BD4068B41DED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3"/>
          <p:cNvSpPr txBox="1"/>
          <p:nvPr/>
        </p:nvSpPr>
        <p:spPr>
          <a:xfrm>
            <a:off x="1447920" y="1371600"/>
            <a:ext cx="7086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graphic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forms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0" y="5867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By: Mrs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Sa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trai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body of water connecting two larger bodies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inkhole</a:t>
            </a: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	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circular depression formed when the roof of a cave collaps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Riv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tural flow of water that runs through the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Wetland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covered by shallow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Fore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densely wooded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Lak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inland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a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near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olcano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pening in the Earth’s crust where lava, ash, and gases erup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anyo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deep, narrow valley with steep wal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early flat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Gulf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part of the ocean that extends into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Hill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rounded, elevated area of land smaller than a mountai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un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hill of sand shaped by wi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ser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extremely dry area with little water and few plant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Oasi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in the desert with a water sour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teau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, flat, elevated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Glaci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area of slow-moving i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alle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ow land between hills or mountai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Mount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rugged land that generally rises higher than 2,000 fee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151af5"/>
                </a:solidFill>
                <a:latin typeface="Comic Sans MS"/>
              </a:rPr>
              <a:t>Study for your test !!!</a:t>
            </a:r>
            <a:endParaRPr b="1" lang="en-US" sz="55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ching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ll-in-the-blank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1776600" cy="3170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676520" y="419112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top, Drop everything, &amp; Study ton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Ocean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ral Reef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cean ridge made up of skeletal remains of tiny sea anima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eninsul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that sticks out into a lake or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Ba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art of a large body of water that is smaller than a gul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thmu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piece of land connecting two larger land are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lt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where a river deposits soil into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land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surrounded entirely by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22:42:24Z</dcterms:created>
  <dc:creator>one1</dc:creator>
  <dc:description/>
  <dc:language>en-US</dc:language>
  <cp:lastModifiedBy>RomaK</cp:lastModifiedBy>
  <dcterms:modified xsi:type="dcterms:W3CDTF">2015-09-04T09:43:05Z</dcterms:modified>
  <cp:revision>9</cp:revision>
  <dc:subject/>
  <dc:title>No Slide Title</dc:title>
</cp:coreProperties>
</file>